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4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7.wmf" ContentType="image/x-wmf"/>
  <Override PartName="/ppt/media/image19.wmf" ContentType="image/x-wmf"/>
  <Override PartName="/ppt/media/image14.jpeg" ContentType="image/jpeg"/>
  <Override PartName="/ppt/media/image16.wmf" ContentType="image/x-wmf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FEAA-85B9-4A1C-8B6D-88F51377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DB8C-B1BB-412F-AA33-55785E09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DADD-14EC-4020-9F86-5C4B395A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8230-9310-4A46-B76B-D04F6544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328B-171A-4A24-BC45-1A99F227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1E2A-FCC2-40A1-9A63-7FDE496A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DC04-B0FA-47FE-86EB-2D969FC4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A9AA-CE49-4EA0-B175-4E884A63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DD5E-986B-46FA-A5A8-1CA0AE4C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92D7-217F-483D-B207-2E96E614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75FB-4518-44F1-A8F8-D560592E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9B38-03AE-43D7-8057-1DBA70EF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F6C6-ACC9-4A0D-A137-D0D19A89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107C-8F3F-4F82-A129-88CF951D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A92F-93CC-4323-AAB6-A2308104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91AF-6A7C-4EC7-925A-20BF1B2E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6F52-89EF-4A02-BFEF-61731C87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DEDA-CB70-4220-BE6E-6B86E2AE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94B3-55E1-4695-AC3C-9F9ECCA0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2B28-9F22-4059-9B65-000D2BEF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2BC1-EAFA-47F2-A972-75130C68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0933-5BF2-46C7-B372-44D2DABF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29D0-4869-4302-AA57-9B8C3A1A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FFC-A493-493D-A693-2443BE36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E1CE-9203-41D2-A320-89F271F0EA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D14B-476D-467B-96A7-54E001AB00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High School TV Studio and Editing Lab Quote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By Xaras Collins-Brown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echnology Integrator 6-12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Presented to the School Board – April 2010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dio Accesso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irlwind Accusonic+2 XLR Male to XLR Female Microphone Cable [6' (1.83 m) - 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$14.95 eac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5 need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62080" y="2076480"/>
            <a:ext cx="2571840" cy="2571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5800" y="5029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bhphotovideo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dio Accesso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Pyle-Pro PPSN811 8-Channel Balanced XLR Male to XLR Female Snake - Length 10' (3.04m) - </a:t>
            </a:r>
            <a:r>
              <a:rPr b="0" lang="en-US" sz="2300" spc="-1" strike="noStrike">
                <a:solidFill>
                  <a:srgbClr val="ffcc00"/>
                </a:solidFill>
                <a:latin typeface="Arial"/>
              </a:rPr>
              <a:t>$54.95 each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5 needed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3-pin XLR Male to 3-pin XLR Female Balanced Cable - 15 ft - </a:t>
            </a:r>
            <a:r>
              <a:rPr b="0" lang="en-US" sz="2300" spc="-1" strike="noStrike">
                <a:solidFill>
                  <a:srgbClr val="ffcc00"/>
                </a:solidFill>
                <a:latin typeface="Arial"/>
              </a:rPr>
              <a:t>$15.99 each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5 needed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286000" y="3581280"/>
            <a:ext cx="2152800" cy="2152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743200" y="2514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bhphotovideo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gh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ltman Micro PAR 50 Watt Tungsten PAR Light - Black (120VAC) - </a:t>
            </a:r>
            <a:r>
              <a:rPr b="0" lang="en-US" sz="2300" spc="-1" strike="noStrike">
                <a:solidFill>
                  <a:srgbClr val="ffcc00"/>
                </a:solidFill>
                <a:latin typeface="Arial"/>
              </a:rPr>
              <a:t>$ 93.50 each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3-6 needed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ltman 65Q Fresnel Light - </a:t>
            </a:r>
            <a:r>
              <a:rPr b="0" lang="en-US" sz="2300" spc="-1" strike="noStrike">
                <a:solidFill>
                  <a:srgbClr val="ffcc00"/>
                </a:solidFill>
                <a:latin typeface="Arial"/>
              </a:rPr>
              <a:t>$ 119.95 each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2 needed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50 Watt 120VA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nging Type 6" Short Throw Lens Color Fr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fety Cable For Theatre Lighting -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$ 119.95 ea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2 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38080" y="533412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bhphotovideo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14600" y="3429000"/>
            <a:ext cx="18478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Stage Equip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udget 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$100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tage floo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i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able with sett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reen/blue scree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ews des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ookcases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3657600" cy="2762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0200" y="5334120"/>
            <a:ext cx="441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jeff92.org/home_page/TV_Production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Video Editing Lab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next series of slides will identify specific equipment for a middle/high school video editing lab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22480" y="2930400"/>
            <a:ext cx="4987800" cy="2213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01280" y="5486400"/>
            <a:ext cx="441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jeff92.org/home_page/TV_Production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ew Tech Video Toaster 5 – Integrated Production Sui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T[5]™ Educational Bundle with VT[5]™ and SX-84™ - 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$ 5,995.00 each Live Switch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Internet streamin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itling or Character Genera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G Designer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igital Disk Recorder (VT-DDR™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External Controll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udio Mixer (using SX-84 expansion bo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ignal correc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Proc Amp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Video Sco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aveform Moni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Video Monitor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Non-linear video editing SpeedEDIT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2D Video painting and anima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ura Video Paint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VD Authoring U-Lead DVD Workshop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INPUT/OUTPU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541008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newtek.com/vt/features.ph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237024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ditional Features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3984840" cy="3016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388120" y="1828800"/>
            <a:ext cx="3181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ditional Features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562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ni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by TFTV2224 22" Widescreen LCD HD TV/Monitor - 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$200.69 each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 need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solution:1680 x 105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TSC/QAM/NTSC tun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x HDMI Built-in Stereo Speaker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osed-Cap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838080" y="533412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bhphotovideo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 DVD Play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ioneer DVD-V8000 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-$999.00 eac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914400" y="3316320"/>
            <a:ext cx="5181480" cy="1376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09680" y="51814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pioneer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TV Studio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next series of slides will identify specific equipment for a middle/high school TV studio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743200" y="2819520"/>
            <a:ext cx="3505320" cy="2638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349000" y="5689440"/>
            <a:ext cx="441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jeff92.org/home_page/TV_Production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ni DV/S-VHS Record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JVC SR-VS30U VS30 BRAND NEW SVHS MINI DV DUBBING VCR - 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$1800.00 eac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5181480" cy="1371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85800" y="52578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0.epinions.com/prices/pr-JVC_HR-DVS3_Mini_DV_S-VHS_VC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ut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pple iMac - </a:t>
            </a:r>
            <a:r>
              <a:rPr b="0" lang="en-US" sz="2300" spc="-1" strike="noStrike">
                <a:solidFill>
                  <a:srgbClr val="ffcc00"/>
                </a:solidFill>
                <a:latin typeface="Arial"/>
              </a:rPr>
              <a:t>$1700 each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3-5 needed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7-inch: 3.06G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06GHz Intel Core 2 Du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60 x 1440 resolu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GB memo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TB hard drive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x double-layer SuperDri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TI Radeon HD 4670 graphics with 256MB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924360" cy="2286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38080" y="5181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tore.apple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ideo Editing Softw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ple Final Cut Express 4 Video Editing Software for Mac OS X - 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$157.99 each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-5 need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3154320" cy="31543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838080" y="533412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bhphotovideo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Equip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udget 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$100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ires, cables, and rack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fessional developme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intenan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3276360" cy="3276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85800" y="5334120"/>
            <a:ext cx="396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saville-av-online.com/images/category_images/1177578013.4957_45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Total Cost for TV Studio/Video Editing Lab for High School Stud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Arial"/>
              </a:rPr>
              <a:t>$49, 313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for TV studio and video editing lab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th one digital TV came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Arial"/>
              </a:rPr>
              <a:t>$62, 913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for TV studio and video editing lab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th two digital TV camer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One-time investment with routine upgrades and maintenance every two, five, and 10 years.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pared by Xaras Collins-Brow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r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RIT 541 Video Commun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f Pat Wal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ring 201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tachi Z4000W Studio Camera (2 needed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TACHI Z4000W USED B-STOCK CAMERA PACKAGE 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$14,600.00 ea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CLUD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A-Z31 CAMERA ADAPTER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FUJINON A20X8.6BRM-24 ZOOM LEN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U-Z1 REMOTE CCU (ORIGINAL BO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GM-51 5" VIEW FINDER (ORIGINAL BOX)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T-30 VIEW FINDER ADAPTER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A-Z3 TRIPOD ADAP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PORTABRACE CAMERA BAG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28 PIN CAMERA TO CCU CABLE 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E CAMER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CU AND 5� VIEWFINDER COME WITH A 9 MONTH WARRANTY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927080"/>
            <a:ext cx="4114800" cy="3102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09480" y="5257800"/>
            <a:ext cx="3810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hitachikokusai.com/supportingdocs/products/broadcast_prof_products/portable_production/Z4000W_broch1.pd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leprompter (2 neede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cue/QTV Professional Series 17" Teleprompter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$3, 949.95 e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7” monitor medium wide-angle hoo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’ power cable, 82’ composite cab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ctronic user manu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 year warranty against defects in material and workmanship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8040"/>
            <a:ext cx="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14400" y="5638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bhphotovideo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leprompter Cont’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QStart Prompter Software Package - 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$449.95 eac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5800" y="48769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bhphotovideo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destal Tripods (2 neede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nten V3951-0001 Vision Ped Plus Studio Pedestal- Supports up to 66 lb (30 kg) 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- $ 4,559.95 ea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Load Capacity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66 lb (30 kg)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owl Diameter/Thread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00 mm bowl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eering Ring Diameter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3.8" (35.0 cm)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inimum Height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9.6" (75.1 cm)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aximum Height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62.8" (159.5 cm)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eight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9.7 lb (13.5 kg)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arranty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 Year Warranty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olly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oorway Tracking Width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37.6" (95.6 cm)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ransit Doorway Widt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8.9" (73.3 cm)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heel Diameter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4" (10.0 cm)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heel Lock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Yes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3543480" cy="3543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14400" y="5638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bhphotovideo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dio Mixing Boar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eavey PV14 Live Sound Mixer with 14 Channels and Effects Processor - 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$ 299.95 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eac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4 Input Channel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 Stereo Channel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0 RQ Mic Input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ternal Effects Processo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14400" y="184788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38080" y="548640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bhphotovideo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crophones - Wir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static CTM-44 Dynamic Handheld Microphone with On/Off Switch – 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$52.50 each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 need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KG KM259/5 Extra Low Profile Tripod Mic Stand - 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$79.95 each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 need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86000" y="3714840"/>
            <a:ext cx="2228760" cy="22287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895480" y="2743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bhphotovideo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crophones - Wirel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mpliVox Sound Systems S1600 VHF Portable Wireless Microphone System with Lavalier Microphone - 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$239.95 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cc00"/>
                </a:solidFill>
                <a:latin typeface="Arial"/>
              </a:rPr>
              <a:t>eac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3124440" cy="3124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14400" y="5410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bhphotovideo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5:14:05Z</dcterms:created>
  <dc:creator>Xaras</dc:creator>
  <dc:description/>
  <dc:language>en-US</dc:language>
  <cp:lastModifiedBy>Xaras</cp:lastModifiedBy>
  <dcterms:modified xsi:type="dcterms:W3CDTF">2010-03-31T03:00:08Z</dcterms:modified>
  <cp:revision>48</cp:revision>
  <dc:subject/>
  <dc:title>School TV Studio and Editing Lab Quote</dc:title>
</cp:coreProperties>
</file>